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29A08-FCE8-4E1F-A9B5-D0B1D0FAC46A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me crea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akari Koivunen and Henrik O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Released under the LGPL lic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что позволяет достичь компромисса между требованием обеспечения высоких рабочих характеристик системы и ее низкого энерго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39F-ABAA-47E6-A6E5-89ABADBE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128-3122-44E3-BC94-91EB9FB6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97F-4965-4A31-B9C6-0D1B2F9F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4AC-F369-43A1-8560-073AE2D9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E30-2BC1-4395-848B-B408AD30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C45-937D-49B4-B965-251B74EF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B6E-6B8C-4E18-9407-76598FCC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7E5-E426-4DB7-9D7D-2989EF7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178920"/>
            <a:ext cx="9358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D3F-49AD-40F8-8E3B-29FAE11E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CC3-2986-497C-B5AD-87AB479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056-732F-4651-B227-B9D645B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268-CE53-4E9F-89C6-5F0E50A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c19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4c19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663300"/>
                </a:solidFill>
                <a:latin typeface="Bitstream Vera Serif"/>
                <a:ea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itstream Vera Serif"/>
                <a:ea typeface="DejaVu Sans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64280" y="6858000"/>
            <a:ext cx="211464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600" spc="-1" strike="noStrike">
                <a:solidFill>
                  <a:srgbClr val="663300"/>
                </a:solidFill>
                <a:latin typeface="Bitstream Vera Serif"/>
                <a:ea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itstream Vera Serif"/>
                <a:ea typeface="DejaVu San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0036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663300"/>
                </a:solidFill>
                <a:latin typeface="Bitstream Vera Serif"/>
                <a:ea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5183B-4818-46DA-BF9F-9ED06F9FC912}" type="slidenum">
              <a:rPr b="0" lang="en-US" sz="1600" spc="-1" strike="noStrike">
                <a:solidFill>
                  <a:srgbClr val="663300"/>
                </a:solidFill>
                <a:latin typeface="Bitstream Vera Serif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97920"/>
            <a:ext cx="9360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Процессоры Texas Instruments OMAP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Евгений Соломин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Процессоры Texas Instruments OMAP, особенности архитектуры, их применение для встраиваемых систем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RISC + DSP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8" name=""/>
          <p:cNvSpPr/>
          <p:nvPr/>
        </p:nvSpPr>
        <p:spPr>
          <a:xfrm>
            <a:off x="530280" y="2925720"/>
            <a:ext cx="9072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Добавив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SP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роцессор, который идеально подходит для ресурсоемких приложений, тем самым уменьшая вероятность, что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SC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роцессор будет перезагружен. Параллельно распределяя задачи между двумя процессорами, уменьшается возможность, что приложение завершится на середине выполнения, т.к.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SC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роцессор направляет свои ресурсы на обработку другого приложения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itstream Vera Sans"/>
              </a:rPr>
              <a:t>Преимущество </a:t>
            </a: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OMAP DSP/BIOS Bridge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2050920"/>
            <a:ext cx="9072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SP/BIOS Bridge –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это ключ функциональности архитектуры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MAP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Обеспечивает возможность разработки приложений, дружелюбный интерфейс для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SP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озволяет разрабатывать приложения для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SC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имея доступ и возможность контролировать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SP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, используя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I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itstream Vera Sans"/>
              </a:rPr>
              <a:t>Как работает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2" name=""/>
          <p:cNvSpPr/>
          <p:nvPr/>
        </p:nvSpPr>
        <p:spPr>
          <a:xfrm>
            <a:off x="530280" y="2925720"/>
            <a:ext cx="9072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7640" y="1795320"/>
            <a:ext cx="85694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3 поколения OMAP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29920" y="2443320"/>
            <a:ext cx="9072360" cy="30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835280"/>
            <a:ext cx="1008072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1030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000" y="1703520"/>
            <a:ext cx="907236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ass 12 WCDMA/GSM/GPRS modem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20 Mhz ARM9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QVGA 30fps (QCIF), 15fps (CIF)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gital camera with 2-megapixel support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Video capture, playback, and streaming at 30 frames per second (QCIF format) and 15 frames per second (CIF format)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gital audio such as MP3 and other audio formats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color LCD screens up to QVGA in siz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D and 3D gaming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4 polyphonic MIDI ringtones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rdware-based security;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1030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9920" y="2714760"/>
            <a:ext cx="9072360" cy="30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835280"/>
            <a:ext cx="1008072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2230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9920" y="2925360"/>
            <a:ext cx="907236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ass 12 WCDMA/GSM/GPRS modem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30Mhz ARM11 cor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264 VGA decode at 30fp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upport up to 5Mpix camer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diacted 2D/3D Graphics Accelerator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2230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9920" y="2925360"/>
            <a:ext cx="907236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805040"/>
            <a:ext cx="10080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3420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29920" y="2925360"/>
            <a:ext cx="907236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RM CortexA8 cor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264 VGA decode at 30fp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tegrated Image Signal Processor (ISP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upport up to 12Mpix camer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3420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29920" y="2925360"/>
            <a:ext cx="907236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835280"/>
            <a:ext cx="1008072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97920"/>
            <a:ext cx="9360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 (Open Multimedia Applications Platform)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90727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MAP – это высокоинтегрированная программно-аппаратная платформа, разработанная для мобильных и встраиваемых приложений, которая  позволяет разрабатывать устройства с мощными пользовательскими интерфейсами и высокой производительностью..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1979640"/>
            <a:ext cx="88851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Открытая платформа для мультимедийных приложений.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Результаты сравнения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44720" y="1042920"/>
            <a:ext cx="5975280" cy="65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itstream Vera Sans"/>
              </a:rPr>
              <a:t>Где используется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530280" y="2925720"/>
            <a:ext cx="9072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97920"/>
            <a:ext cx="9360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 (Open Multimedia Applications Platform)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90727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..обеспечивая минимальное энергопотребление наряду с максимальной гибкостью и удобством, благодаря полностью интегрированной платформе процессора для обработки смешанных сигналов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97920"/>
            <a:ext cx="9360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OMAP (Open Multimedia Applications Platform)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90727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Мост DSP/BIOS Bridge позволяет разработчику конечной системы оптимальным образом распределять задачу между сигнальным и RISC процессором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Особенности архитектуры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29920" y="1599840"/>
            <a:ext cx="9072360" cy="33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В основе процессоров семейства OMAP лежит комбинация на одном кристалле сигнального процессора с ультранизким потреблением энергии TMS320C55x и управляющего RISC процессора с ядром ARM и схемы общей памяти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Семейство многоядерных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29920" y="1731600"/>
            <a:ext cx="907236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Процессоры семейства OMAP являются многоядерными в отличии от их предшественников TMS, что дает первым преимущество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Особенности архитектуры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29920" y="1600200"/>
            <a:ext cx="90723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Включение в состав аппаратной части OMAP TMS320C55x позволяет в приложениях стандарта 3G успешно реализовывать алгоритмы распознавания речи в условиях эхо- и шумоподавления. Энергоэффективнее, чем на одном RISC процессоре, исполняются на OMAP алгоритмы MP3 (MPEG Audio Decode, Layer 3) и AAC (Advanced Audio Coding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225360"/>
            <a:ext cx="9360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itstream Vera Sans"/>
              </a:rPr>
              <a:t>Преимущество</a:t>
            </a: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Bitstream Vera Sans"/>
              </a:rPr>
              <a:t>использования </a:t>
            </a:r>
            <a:r>
              <a:rPr b="1" lang="en-US" sz="3600" spc="-1" strike="noStrike">
                <a:solidFill>
                  <a:srgbClr val="ffffff"/>
                </a:solidFill>
                <a:latin typeface="Bitstream Vera Sans"/>
              </a:rPr>
              <a:t>DSP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2195280"/>
            <a:ext cx="90723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SP </a:t>
            </a: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обеспечивает высокую производительность в приложениях работающих, например с видео и аудио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SP </a:t>
            </a: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требует значительно меньше мощности на время такта, чем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SIC </a:t>
            </a: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процессор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SP </a:t>
            </a: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требуется меньше инструкция для реализации math-intensive и repetitive алгоритмов что позволяет выполнять большее количество инструкция за время такта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8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itstream Vera Sans"/>
              </a:rPr>
              <a:t>Результат: быстрая реализация с очень небольшим потреблением мощности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358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RISC + DSP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503280" y="1892160"/>
            <a:ext cx="9072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Используя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SC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SP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араллельно, архитектура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MAP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использует возможности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SP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роцессора в то время как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SC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процессор выполняет команды с которыми он справляется наилучшим образом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609480" indent="-6094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Такой подход обеспечивает по крайней мере две важные вещи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609480" indent="-6094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Улучшение качества функций беспроводной связи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609480" indent="-6094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Bitstream Vera Sans"/>
              </a:rPr>
              <a:t>Допускает мультимедийную многозадачность в устройствах радио связи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0xDEFACE</dc:creator>
  <dc:description/>
  <dc:language>en-US</dc:language>
  <cp:lastModifiedBy>Быченков А.А.</cp:lastModifiedBy>
  <dcterms:modified xsi:type="dcterms:W3CDTF">2007-03-29T09:25:52Z</dcterms:modified>
  <cp:revision>68</cp:revision>
  <dc:subject/>
  <dc:title>Процессоры Texas Instruments OMAP</dc:title>
</cp:coreProperties>
</file>